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C2F9-ABB2-4D9F-8237-017D51E84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774A-C274-447B-B9AD-224C9211D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CF31-BCA2-49D1-9EBF-66B3AE2C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FE19-4AD4-481D-AAB3-F0A28D3D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C944-5CB2-473F-8AAA-9FD57649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638B-E941-4547-B961-C299F9E0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1CCA-AB48-46F6-BAF1-B1A78787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6AB1-07B0-47D1-968A-09B34296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6F2E-9F83-4626-B896-FDBC9AA6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E8AB-7A7B-4502-81EA-099C05CB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C3D0-9C6B-4034-86A6-40E61A99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7690-E9D9-4EA5-964D-3CF042F5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2394-C6AF-40AB-AA3C-ECE5426E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2204-85C5-4A9C-B053-4E247C25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B4EC-CB6C-4A2A-A2AF-85ED0792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DA89-C43D-4F52-87C0-7DDA5523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AE1E-ECFF-4183-AC77-BF01C25D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F590-18E8-4352-8323-B7122EAD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D1B4-28B0-4839-8BFF-A0C9B110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CDA0-3432-47F8-A6C9-1F0789FA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29CC-F585-470F-925C-118097D7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4EAA-7918-4019-9073-C6AF415C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2F78-5FF2-4DC4-BFC8-1FE9D56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FD8E-1AF5-4D61-8AB8-963691A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D5B4-6202-4A55-A4AF-9E24321A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80EE-5D36-496C-9987-67FA85F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E26D-7E9F-46C9-B006-D3F6EFB1A2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48BC-A487-4261-A83D-DF836EABF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ffffff"/>
                </a:solidFill>
                <a:latin typeface="Arial"/>
              </a:rPr>
              <a:t>Playing with Wor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400" spc="-1" strike="noStrike">
                <a:solidFill>
                  <a:srgbClr val="000000"/>
                </a:solidFill>
                <a:latin typeface="Arial"/>
              </a:rPr>
              <a:t>Poetry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images with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ended noun phr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You can </a:t>
            </a: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build description and detail by adding more information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to the main </a:t>
            </a:r>
            <a:r>
              <a:rPr b="0" lang="cy-GB" sz="1800" spc="-1" strike="noStrike" u="sng">
                <a:solidFill>
                  <a:srgbClr val="000000"/>
                </a:solidFill>
                <a:uFillTx/>
                <a:latin typeface="Arial"/>
              </a:rPr>
              <a:t>noun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You can do this in several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by adding </a:t>
            </a: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adjectives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before or after the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by adding a </a:t>
            </a:r>
            <a:r>
              <a:rPr b="0" lang="cy-GB" sz="1800" spc="-1" strike="noStrike">
                <a:solidFill>
                  <a:srgbClr val="99cc00"/>
                </a:solidFill>
                <a:latin typeface="Arial"/>
              </a:rPr>
              <a:t>relative clause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after the noun (one which begins with </a:t>
            </a:r>
            <a:r>
              <a:rPr b="0" i="1" lang="cy-GB" sz="1800" spc="-1" strike="noStrike">
                <a:solidFill>
                  <a:srgbClr val="000000"/>
                </a:solidFill>
                <a:latin typeface="Arial"/>
              </a:rPr>
              <a:t>that, who, which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et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by adding a </a:t>
            </a:r>
            <a:r>
              <a:rPr b="0" lang="cy-GB" sz="1800" spc="-1" strike="noStrike">
                <a:solidFill>
                  <a:srgbClr val="ff9933"/>
                </a:solidFill>
                <a:latin typeface="Arial"/>
              </a:rPr>
              <a:t>non-finite clause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after the noun (one which uses the –ing or –ed form of the ver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By adding a </a:t>
            </a:r>
            <a:r>
              <a:rPr b="0" lang="cy-GB" sz="1800" spc="-1" strike="noStrike">
                <a:solidFill>
                  <a:srgbClr val="00ffcc"/>
                </a:solidFill>
                <a:latin typeface="Arial"/>
              </a:rPr>
              <a:t>prepositional phrase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after the noun (one which starts with a preposition e.g. at, on, by, u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cy-GB" sz="1800" spc="-1" strike="noStrike">
                <a:solidFill>
                  <a:srgbClr val="3333cc"/>
                </a:solidFill>
                <a:latin typeface="Arial"/>
              </a:rPr>
              <a:t>insolent</a:t>
            </a:r>
            <a:r>
              <a:rPr b="0" i="1" lang="cy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y-GB" sz="1800" spc="-1" strike="noStrike" u="sng">
                <a:solidFill>
                  <a:srgbClr val="000000"/>
                </a:solidFill>
                <a:uFillTx/>
                <a:latin typeface="Arial"/>
              </a:rPr>
              <a:t>teenager</a:t>
            </a:r>
            <a:r>
              <a:rPr b="0" i="1" lang="cy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y-GB" sz="1800" spc="-1" strike="noStrike">
                <a:solidFill>
                  <a:srgbClr val="99cc00"/>
                </a:solidFill>
                <a:latin typeface="Arial"/>
              </a:rPr>
              <a:t>who stood</a:t>
            </a:r>
            <a:r>
              <a:rPr b="0" i="1" lang="cy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y-GB" sz="1800" spc="-1" strike="noStrike">
                <a:solidFill>
                  <a:srgbClr val="ff9933"/>
                </a:solidFill>
                <a:latin typeface="Arial"/>
              </a:rPr>
              <a:t>sulking</a:t>
            </a:r>
            <a:r>
              <a:rPr b="0" i="1" lang="cy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y-GB" sz="1800" spc="-1" strike="noStrike">
                <a:solidFill>
                  <a:srgbClr val="00ffcc"/>
                </a:solidFill>
                <a:latin typeface="Arial"/>
              </a:rPr>
              <a:t>by the teacher’s desk</a:t>
            </a:r>
            <a:r>
              <a:rPr b="0" i="1" lang="cy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mily cele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Ancient Uncle Henry in his favourite armchair, snoring loudly through the Queen’s speech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My little brother dressed in his new Spiderman outfit, trying to fly down the stair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Mum curled up on the sofa, picking the chocs with purple wrappers out of the Quality Stre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tin, and thinking no-one’s noticed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Our scraggy tabby under the table, fighting  with a fallen turkey bon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An unwrapped present by the Christmas tree, hidden in a tangle of tinsel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Snow swirling softly past the window: another family Christmas coming to an en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Ke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The word kenning comes from Old Norse: </a:t>
            </a:r>
            <a:r>
              <a:rPr b="0" i="1" lang="cy-GB" sz="2000" spc="-1" strike="noStrike">
                <a:solidFill>
                  <a:srgbClr val="000000"/>
                </a:solidFill>
                <a:latin typeface="Arial"/>
              </a:rPr>
              <a:t>kenna</a:t>
            </a: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–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We have a relic of this in English especially in the North – ‘</a:t>
            </a:r>
            <a:r>
              <a:rPr b="0" i="1" lang="cy-GB" sz="2000" spc="-1" strike="noStrike">
                <a:solidFill>
                  <a:srgbClr val="000000"/>
                </a:solidFill>
                <a:latin typeface="Arial"/>
              </a:rPr>
              <a:t>Do you ken John Peel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The kenning is a naming device – a way of creating new 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It always involves at least two words, usually two 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So a kenning is a compound 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nning was used over a thousand years ago in Anglo-Saxon and Norse poetry to create fresh, new descriptions of well-known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are some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nh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one house) for bod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ron r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ale road) for se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lmber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elmet carrier) for war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kennings are metaphors: they name something by comparing the original object with something different.  Can you see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ts val="216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These are all kennings found in Viking or Anglo-Saxon poetry, and in each case the invented kenning is more descriptive than the every day no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lood-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tt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pear-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lf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loodsl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w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loodb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wea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loodw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rpse          raven harv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ath            sleep of the 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ye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row-s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r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ne of 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cy-GB" sz="2000" spc="-1" strike="noStrike">
                <a:solidFill>
                  <a:srgbClr val="3333cc"/>
                </a:solidFill>
                <a:latin typeface="Arial"/>
              </a:rPr>
              <a:t>Wind             tree-break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Which kenning do you think is most effective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2398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Can you see the different ways in which two nouns have been put together to form a compound no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Everyday Ke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We have lots of modern kennings, but they are now so commonplace that they have lost their descriptive power and have become single word nouns. Here are a f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beachco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lawnm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dishwa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toothb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Can you think of any oth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Sound and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One thing that poetry can do, which prose can’t, is play with where a line of poetry ends.  Our first realisation that a poem is a poem is usually because it is laid out differently on th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Poets can also play with line length to give emphasis to different words and images.  What comes first and last in a line tends to be more emphatic than everything in between; a word or phrase in a line of its own receives particular emph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Playing with Line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24588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Dear Un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The soap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terr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1800" spc="-1" strike="noStrike">
                <a:solidFill>
                  <a:srgbClr val="3333cc"/>
                </a:solidFill>
                <a:latin typeface="Arial"/>
              </a:rPr>
              <a:t>us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556000" y="3429000"/>
            <a:ext cx="65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Bent double, like old beggars under sacks, </a:t>
            </a:r>
            <a:br>
              <a:rPr sz="1800"/>
            </a:b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Knock-kneed, coughing like hags, we cursed through sludge,  </a:t>
            </a:r>
            <a:br>
              <a:rPr sz="1800"/>
            </a:b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Till on the haunting flares we turned our backs  </a:t>
            </a:r>
            <a:br>
              <a:rPr sz="1800"/>
            </a:b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And towards our distant rest began to trudge.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8360" y="2205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Look at these two extracts from poems you have already read and speculate why the poets chose to lay their lines out in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Playing with Line E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Poets can also play with making one line of poetry run into the next: this is called </a:t>
            </a: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enjambement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or run-on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Enjambement helps </a:t>
            </a: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to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keep together information which is closely related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: in other words, it helps the sense of a line to carry through into the next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Striding forward along the rails</a:t>
            </a:r>
            <a:br>
              <a:rPr sz="1800"/>
            </a:b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ro' southern uplands with northern mai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Enjambement also helps </a:t>
            </a: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to alter the sound of poetry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in your head or when read aloud by disrupting the rather dull habit of pausing at the end of each line.  The run-on lines carry the voice straight from one line to the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1800" spc="-1" strike="noStrike">
                <a:solidFill>
                  <a:srgbClr val="99cc00"/>
                </a:solidFill>
                <a:latin typeface="Arial"/>
              </a:rPr>
              <a:t>If in some smothering dreams you too could 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1800" spc="-1" strike="noStrike">
                <a:solidFill>
                  <a:srgbClr val="99cc00"/>
                </a:solidFill>
                <a:latin typeface="Arial"/>
              </a:rPr>
              <a:t>Behind the wagon that we flung him 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Playing with Line Br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Instead of deciding to run one line into the next, a poet can also decide to stop the line in the middle with a full stop, dash or colon which create a break in the line.  This is called </a:t>
            </a: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caesura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or a mid-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Just as enjambement alters the sound of poetry by running two lines together, caesura </a:t>
            </a: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alters the sound of a poem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by creating an unexpected 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The unexpected stop mid-line, usually </a:t>
            </a:r>
            <a:r>
              <a:rPr b="0" lang="cy-GB" sz="1800" spc="-1" strike="noStrike">
                <a:solidFill>
                  <a:srgbClr val="3333cc"/>
                </a:solidFill>
                <a:latin typeface="Arial"/>
              </a:rPr>
              <a:t>creates emphasis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by drawing attention to something: it could signal an increase in tension, emphasise an image, or signal the importance of what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Think about what the effect of the causura is in the examples on the nex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339640" y="692280"/>
            <a:ext cx="3311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 u="sng">
                <a:solidFill>
                  <a:srgbClr val="000000"/>
                </a:solidFill>
                <a:uFillTx/>
                <a:latin typeface="Arial"/>
              </a:rPr>
              <a:t>Eye S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so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into the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the sk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s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2400" spc="-1" strike="noStrike">
                <a:solidFill>
                  <a:srgbClr val="000000"/>
                </a:solidFill>
                <a:latin typeface="Arial"/>
              </a:rPr>
              <a:t>© Roger McG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What’s the Eff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o be, or not to be: that is the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Gas! Gas! Quick, boys! –  An ecstasy of fumbling,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 sat in a wheeled chair, waiting for da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hivered in his ghastly suit of grey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less, sewn short at elbow. Through the park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ices of boys rang saddening like a hym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Sentence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earching my face, I see only tears.  My heart reaches for l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In the silver lake, the moon flickers.  Then dark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 u="sng">
                <a:solidFill>
                  <a:srgbClr val="000000"/>
                </a:solidFill>
                <a:uFillTx/>
                <a:latin typeface="Arial"/>
              </a:rPr>
              <a:t>Some patterns that are easy to use in your writing for var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Long sentences followed by short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Short sentences followed by long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Sentences without a ver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Several short sentences following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A one word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Repeated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There are may other sentence patterns – look for them in the texts you rea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Sentence St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ff9933"/>
                </a:solidFill>
                <a:latin typeface="Arial"/>
              </a:rPr>
              <a:t>The family cat was there in front of hi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looming large like a monster in the headligh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And there before him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oming large like a monster in the headlights, was the family ca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nd look what punctuation can do !]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here before him, looming large like a monster in the headlights, was 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family cat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Like a monster in the headlights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family cat loomed before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Vary how you start your sentences to alter which information the reader receives first or last; or to vary the rhythm of th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Playing with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There is nothing wrong with using ‘plain, ordinary’ sentences – and sometimes they are just what is needed.  But there are two good reasons to think about varying your sentences, not just for poetry, but for all wr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9900ff"/>
                </a:solidFill>
                <a:latin typeface="Arial"/>
              </a:rPr>
              <a:t>1.       If you use only ordinary sentences, which are all of a similar length and all start with a subject, it makes the rhythm of your writing very dull and flat, like talking in a monot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99cc00"/>
                </a:solidFill>
                <a:latin typeface="Arial"/>
              </a:rPr>
              <a:t>If you use only ordinary sentences, it is harder to influence your reader:  by varying what information comes first, or is delayed until the end of a sentence, you can create excitement, emphasis, or susp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So start playing with designing your sentenc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Arial"/>
              </a:rPr>
              <a:t>Playing with Word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21196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Noun phrases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for description – creating strong images and providing deta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Vocabulary 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– choosing exactly the right 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Kennings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inventing kennings to describe something in an imaginative w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Punctuation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using punctuation to mark meanings or emphasise id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Repetition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using repeated words or sentence patterns for emphasis or effe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Alliteration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repeating consonant sounds to connect related ideas or ima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Enjambement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linking ideas across lines by running them 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Caesura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stopping the reader mid-line to give impact or emphasise what follow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Rhyme and rhythm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matching sound and mea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Line length 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– using line length to play with meanin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Sentence length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varying sentence length to create different rhythms and p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Sentence variety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starting sentences differently to emphasise meanin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700" spc="-1" strike="noStrike">
                <a:solidFill>
                  <a:srgbClr val="3333cc"/>
                </a:solidFill>
                <a:latin typeface="Arial"/>
              </a:rPr>
              <a:t>Personification</a:t>
            </a:r>
            <a:r>
              <a:rPr b="0" lang="cy-GB" sz="1700" spc="-1" strike="noStrike">
                <a:solidFill>
                  <a:srgbClr val="000000"/>
                </a:solidFill>
                <a:latin typeface="Arial"/>
              </a:rPr>
              <a:t> – giving life and thought to an object by presenting it as a pers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Language can stretc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The poet and storyteller Michael Rosen has described language as putty because it is so stretchy.     You can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y-GB" sz="2400" spc="-1" strike="noStrike">
                <a:solidFill>
                  <a:srgbClr val="3333cc"/>
                </a:solidFill>
                <a:latin typeface="Arial"/>
              </a:rPr>
              <a:t>squas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y-GB" sz="2400" spc="-1" strike="noStrike">
                <a:solidFill>
                  <a:srgbClr val="00ff00"/>
                </a:solidFill>
                <a:latin typeface="Arial"/>
              </a:rPr>
              <a:t>squeeze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y-GB" sz="2400" spc="-1" strike="noStrike">
                <a:solidFill>
                  <a:srgbClr val="3333cc"/>
                </a:solidFill>
                <a:latin typeface="Arial"/>
              </a:rPr>
              <a:t>stretch it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cy-GB" sz="2400" spc="-1" strike="noStrike">
                <a:solidFill>
                  <a:srgbClr val="00ff00"/>
                </a:solidFill>
                <a:latin typeface="Arial"/>
              </a:rPr>
              <a:t>shape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y-GB" sz="2400" spc="-1" strike="noStrike">
                <a:solidFill>
                  <a:srgbClr val="993366"/>
                </a:solidFill>
                <a:latin typeface="Arial"/>
              </a:rPr>
              <a:t>and make it do anything you w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Headline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aledonian"/>
          <p:cNvPicPr/>
          <p:nvPr/>
        </p:nvPicPr>
        <p:blipFill>
          <a:blip r:embed="rId1"/>
          <a:stretch/>
        </p:blipFill>
        <p:spPr>
          <a:xfrm>
            <a:off x="250920" y="2349360"/>
            <a:ext cx="4176720" cy="3130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lubber_thumb"/>
          <p:cNvPicPr/>
          <p:nvPr/>
        </p:nvPicPr>
        <p:blipFill>
          <a:blip r:embed="rId2"/>
          <a:stretch/>
        </p:blipFill>
        <p:spPr>
          <a:xfrm>
            <a:off x="6156360" y="2205000"/>
            <a:ext cx="2382840" cy="266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thierry"/>
          <p:cNvPicPr/>
          <p:nvPr/>
        </p:nvPicPr>
        <p:blipFill>
          <a:blip r:embed="rId3"/>
          <a:stretch/>
        </p:blipFill>
        <p:spPr>
          <a:xfrm rot="20389200">
            <a:off x="3132000" y="4005000"/>
            <a:ext cx="3191040" cy="66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spaceball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755640" y="595008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a whole set of puns on Wayne Rooney’s name, see: http://news.bbc.co.uk/1/hi/magazine/3836159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268360" y="14832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Waugh cry as Aussies blast 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292720" y="5183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Arial"/>
              </a:rPr>
              <a:t>Science friction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Poetry – Language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Poetry is language play at its most ext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바탕"/>
              </a:rPr>
              <a:t>The only prob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바탕"/>
              </a:rPr>
              <a:t>with haiku is that you j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바탕"/>
              </a:rPr>
              <a:t>get started and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8000"/>
                </a:solidFill>
                <a:latin typeface="바탕"/>
              </a:rPr>
              <a:t>© Roger McG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You can play with words, images, rhythms, rhymes, sounds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....and even the shape of a poem on th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ape-poem-01"/>
          <p:cNvPicPr/>
          <p:nvPr/>
        </p:nvPicPr>
        <p:blipFill>
          <a:blip r:embed="rId1"/>
          <a:stretch/>
        </p:blipFill>
        <p:spPr>
          <a:xfrm>
            <a:off x="324000" y="1413000"/>
            <a:ext cx="3835080" cy="439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oat"/>
          <p:cNvPicPr/>
          <p:nvPr/>
        </p:nvPicPr>
        <p:blipFill>
          <a:blip r:embed="rId2"/>
          <a:stretch/>
        </p:blipFill>
        <p:spPr>
          <a:xfrm>
            <a:off x="5003640" y="1341360"/>
            <a:ext cx="358164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24000" y="836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 u="sng">
                <a:solidFill>
                  <a:srgbClr val="000000"/>
                </a:solidFill>
                <a:uFillTx/>
                <a:latin typeface="Arial"/>
              </a:rPr>
              <a:t>Amper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003640" y="9079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 u="sng">
                <a:solidFill>
                  <a:srgbClr val="000000"/>
                </a:solidFill>
                <a:uFillTx/>
                <a:latin typeface="Arial"/>
              </a:rPr>
              <a:t>Bre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076720" y="6165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© Court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8360" y="6165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© Patrick Winstan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dd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holes on the top and bottom. I have holes on my left and on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ght. And I have holes in the middle, yet I still hold water. What am 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po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off my skin, I won't cry, but you will. What am 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dd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dips, d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oops out of sp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uzz in his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ky on his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caught in the lig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gone without tr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liver of glas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ver still in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’s elusive as pickpock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rd of the fl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moves like a rock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 for the sk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’s catapult, aeropla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ways full-thrott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ky-diver, Jumping J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uebott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© Judith Nicho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6:30:25Z</dcterms:created>
  <dc:creator>Debra Myhill</dc:creator>
  <dc:description/>
  <dc:language>en-US</dc:language>
  <cp:lastModifiedBy>GSE</cp:lastModifiedBy>
  <dcterms:modified xsi:type="dcterms:W3CDTF">2012-02-22T17:02:48Z</dcterms:modified>
  <cp:revision>233</cp:revision>
  <dc:subject/>
  <dc:title>Slide 1</dc:title>
</cp:coreProperties>
</file>