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1E9-12E6-4BDC-8AA9-E3722451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B85-03F1-4C18-B40C-DD9ED351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C2E-F5C7-490F-9222-F9FA05DE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B56-B7C3-40FC-97C1-C2B1FD29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873-8CA6-4246-B775-45EBDD98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545-410D-4F48-AC31-DDA9A34F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9D0-DCC2-4E02-BE11-B67829A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33B-FAC3-4138-9C6C-A07AD2E3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1F3-2E2A-416A-A0FA-39066F41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868-94F5-41D8-9846-4C8ECBF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4B3-4477-49DA-B5BB-FC6AC7C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C69-09E5-4567-83D7-65884841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E70F-3D79-4EA2-875B-133C7182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bebooks.co.uk/images/Community/Featured/wilfred_owen/wwI.jpg"/>
          <p:cNvPicPr/>
          <p:nvPr/>
        </p:nvPicPr>
        <p:blipFill>
          <a:blip r:embed="rId1"/>
          <a:stretch/>
        </p:blipFill>
        <p:spPr>
          <a:xfrm>
            <a:off x="684360" y="1628640"/>
            <a:ext cx="727236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258920" y="33336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t double, like old beggars under sacks,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ck-kneed, coughing like hags, we cursed through sludge,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l on the haunting flares we turned our backs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wards our distant rest began to trudg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1187280" y="260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 marched asleep. Many had lost their boots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limped on, blood-shod. All went lame; all blind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nk with fatigue; deaf even to the hoo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ired, outstripped Five-Nines that dropped beh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people.vcu.edu/~dlatane/ypres.jpg"/>
          <p:cNvPicPr/>
          <p:nvPr/>
        </p:nvPicPr>
        <p:blipFill>
          <a:blip r:embed="rId1"/>
          <a:stretch/>
        </p:blipFill>
        <p:spPr>
          <a:xfrm>
            <a:off x="539640" y="1700280"/>
            <a:ext cx="792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www.oucs.ox.ac.uk/ww1lit/images/rose/trench3.jpg?1223306475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GasAtttack"/>
          <p:cNvPicPr/>
          <p:nvPr/>
        </p:nvPicPr>
        <p:blipFill>
          <a:blip r:embed="rId1"/>
          <a:stretch/>
        </p:blipFill>
        <p:spPr>
          <a:xfrm>
            <a:off x="611280" y="1557360"/>
            <a:ext cx="7848360" cy="4608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258920" y="260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! Gas! Quick, boys! –  An ecstasy of fumbling,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ting the clumsy helmets just in time;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omeone still was yelling out and stumbling,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lound'ring like a man in fire or lime . . 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sAttack2"/>
          <p:cNvPicPr/>
          <p:nvPr/>
        </p:nvPicPr>
        <p:blipFill>
          <a:blip r:embed="rId1"/>
          <a:stretch/>
        </p:blipFill>
        <p:spPr>
          <a:xfrm>
            <a:off x="324000" y="1557360"/>
            <a:ext cx="8640720" cy="489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332000" y="33336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, through the misty panes and thick green light,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under a green sea, I saw him drowning.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l my dreams, before my helpless sight,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plunges at me, guttering, choking, drowning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ulcetDecorumEst"/>
          <p:cNvPicPr/>
          <p:nvPr/>
        </p:nvPicPr>
        <p:blipFill>
          <a:blip r:embed="rId1"/>
          <a:stretch/>
        </p:blipFill>
        <p:spPr>
          <a:xfrm>
            <a:off x="179280" y="1700280"/>
            <a:ext cx="8713800" cy="4465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1187280" y="260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 some smothering dreams you too could pace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ind the wagon that we flung him in,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atch the white eyes writhing in his face,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hanging face, like a devil's sick of sin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bharatmoms.com/uploads/Image/1258037547his3.jpg"/>
          <p:cNvPicPr/>
          <p:nvPr/>
        </p:nvPicPr>
        <p:blipFill>
          <a:blip r:embed="rId1"/>
          <a:stretch/>
        </p:blipFill>
        <p:spPr>
          <a:xfrm>
            <a:off x="826920" y="1773360"/>
            <a:ext cx="7417080" cy="4680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692360" y="47628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ould hear, at every jolt, the blood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 gargling from the froth-corrupted lungs,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vile, incurable sores on innocent tongues,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1258920" y="33336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friend, you would not tell with such high zes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ildren ardent for some desperate glory,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 Lie: Dulce et Decorum est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patria m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t2.gstatic.com/images?q=tbn:ANd9GcRPLb3fR8aBmTPBwgceB7ggmO3qw_Lqf8Nf-T3sCibewHKUY5JYD-a0BCy4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08:20:25Z</dcterms:created>
  <dc:creator>Debra Myhill</dc:creator>
  <dc:description/>
  <dc:language>en-US</dc:language>
  <cp:lastModifiedBy>GSE</cp:lastModifiedBy>
  <dcterms:modified xsi:type="dcterms:W3CDTF">2011-10-21T09:25:28Z</dcterms:modified>
  <cp:revision>13</cp:revision>
  <dc:subject/>
  <dc:title>Slide 1</dc:title>
</cp:coreProperties>
</file>